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50088"/>
        <c:axId val="51477235"/>
      </c:barChart>
      <c:catAx>
        <c:axId val="59750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77235"/>
        <c:crosses val="autoZero"/>
        <c:auto val="1"/>
        <c:lblAlgn val="ctr"/>
        <c:lblOffset val="100"/>
        <c:noMultiLvlLbl val="0"/>
      </c:catAx>
      <c:valAx>
        <c:axId val="51477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50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352-B982-495F-A24D-AA815F17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6C5-C320-4AC1-9419-889A975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B15-C0B1-45B7-A0F6-4819E2CE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71F-12D8-46AA-9D3A-0768A65D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1DB-6FEE-43AA-BB51-DBAE50B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252-47E8-44AE-BB70-7EC5C2E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3D4-EE2E-4405-9136-100FB7B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640-0B10-4645-8EC1-AB01084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CB5-5454-4699-8D9D-1F8A617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7FE-A621-4DA8-80FB-397C9D8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254-F301-40D2-B98B-48C83C35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E3C-3782-4E0A-896B-07F13E2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F5E7-6DB3-4545-A591-D270B27445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