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26559"/>
        <c:axId val="16618491"/>
      </c:barChart>
      <c:catAx>
        <c:axId val="61326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18491"/>
        <c:crosses val="autoZero"/>
        <c:auto val="1"/>
        <c:lblAlgn val="ctr"/>
        <c:lblOffset val="100"/>
        <c:noMultiLvlLbl val="0"/>
      </c:catAx>
      <c:valAx>
        <c:axId val="166184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26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53C0-6F9B-44EC-A35F-21AF443D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A42-87C7-4C40-A7C7-029BFBF4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5E2-9F28-4AD2-8916-5182CB8A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B63-35FA-484B-9249-E21221DE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B2B1-7AAB-4189-BCDE-895DC0FB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E8F5-337E-4323-9213-4F2E87BE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935-476E-443C-BDCF-ACC36E38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2BF-2D9B-4AC7-8E68-35C3724A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BDB-2764-48BD-9DF8-630BF72B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5B2-74D9-44E1-B58E-415F2F05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B26-FF9F-4539-8D89-C613C2C0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656-A344-45AC-9895-D47CADFA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896FF-0C02-4211-ADE2-D0939F223B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