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411812"/>
        <c:axId val="8777798"/>
      </c:barChart>
      <c:catAx>
        <c:axId val="634118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7798"/>
        <c:crosses val="autoZero"/>
        <c:auto val="1"/>
        <c:lblAlgn val="ctr"/>
        <c:lblOffset val="100"/>
        <c:noMultiLvlLbl val="0"/>
      </c:catAx>
      <c:valAx>
        <c:axId val="87777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118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FFEE-537D-4420-A865-355C601A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99E0-2ADA-48D0-B30E-D3EFD7F1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EE37-9CAC-469C-8E31-7DC8D2F5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263-D65E-4592-AD54-C826F93B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3372-02FD-4935-B704-4B042619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D43-DEE7-4519-9204-41E2244B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C560-55A3-4BA1-8F9F-F31C24BD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B4E3-363D-442C-9249-A6AF6E3F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5465-2861-400F-AB2A-AF0F0207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266-7386-4C93-A150-E6989A81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6CCC-2D9D-4B0E-8562-E8E69C6D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A17A-1469-477D-B364-89480D49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66873-FD66-4BDD-9641-E746A2A60F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