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04146"/>
        <c:axId val="16564581"/>
      </c:barChart>
      <c:catAx>
        <c:axId val="44204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64581"/>
        <c:crosses val="autoZero"/>
        <c:auto val="1"/>
        <c:lblAlgn val="ctr"/>
        <c:lblOffset val="100"/>
        <c:noMultiLvlLbl val="0"/>
      </c:catAx>
      <c:valAx>
        <c:axId val="16564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04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578-142D-4F52-8224-04C20641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6CC-F0A8-4C53-9323-9CA9000E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A98-D42A-464E-80D5-0E58A381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E19-667E-413F-A558-CF7D2E01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23C-52EE-43A1-AFCA-2C4A146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CDB-5CC3-41A5-918A-7DAD7FEE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BA3-0B82-4EF7-AEB4-D245182F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B01-EB05-448A-95DD-75E6F556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7CA-6A52-4004-88FD-EF941E7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C6F-CABB-4A2E-A921-1F8EB69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B3F-F66E-4808-A295-30801AAC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884-C735-4F5B-AB2A-2AC1A7E8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DDC85-7A92-46BF-9FFE-EB55110AFF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