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80926"/>
        <c:axId val="19494774"/>
      </c:barChart>
      <c:catAx>
        <c:axId val="50680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94774"/>
        <c:crosses val="autoZero"/>
        <c:auto val="1"/>
        <c:lblAlgn val="ctr"/>
        <c:lblOffset val="100"/>
        <c:noMultiLvlLbl val="0"/>
      </c:catAx>
      <c:valAx>
        <c:axId val="19494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80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806-87D4-41C6-BF0B-A526850F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40A-9323-490F-A1E5-24E10F7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C5E-2B96-4E0D-B82E-06C75D36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64F-1E29-45D2-B362-16933124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524-D76A-4C79-920E-42278DDA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CAB-D4E0-46AA-8ED0-E6F6A304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24C-279C-42F9-A80F-6C3F9F29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371-EA5C-466F-9A2C-A4A890BB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CD2-7A31-427D-A673-2728E29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DD2-F2FB-46E4-A459-528D0347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9B5-D04A-4C82-9574-CC378A0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DAD-436E-446B-918E-256D05F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5E975-32C6-47B6-976B-7E8FD8950E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