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296041"/>
        <c:axId val="13267494"/>
      </c:barChart>
      <c:catAx>
        <c:axId val="932960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67494"/>
        <c:crosses val="autoZero"/>
        <c:auto val="1"/>
        <c:lblAlgn val="ctr"/>
        <c:lblOffset val="100"/>
        <c:noMultiLvlLbl val="0"/>
      </c:catAx>
      <c:valAx>
        <c:axId val="132674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960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17B1-9A18-47CB-B9E6-BC512EF7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DDBA-9149-4B52-8CA2-55C67E0E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208A-D56D-4B83-B523-B7BFA44B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DF34-C7AF-4191-B11C-BFCEC825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E5A4-28A3-40E4-9167-98DA78C5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1B0E-7843-46EA-8D2A-41736C00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61E-4F8A-4A71-A7D2-401A8932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FFB-5922-4C21-AAB9-0ACDC410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1078-111D-4172-82FB-38D12299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AB52-2823-46F4-B9BD-F5F9E271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0F1-A4E6-463A-AE9E-D5DECC82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8DE0-D400-497E-8CA3-DE2F6DE5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6B570-3310-4800-9D46-CD2CB5E053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