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23667"/>
        <c:axId val="79175909"/>
      </c:barChart>
      <c:catAx>
        <c:axId val="75423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75909"/>
        <c:crosses val="autoZero"/>
        <c:auto val="1"/>
        <c:lblAlgn val="ctr"/>
        <c:lblOffset val="100"/>
        <c:noMultiLvlLbl val="0"/>
      </c:catAx>
      <c:valAx>
        <c:axId val="791759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23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876-AFB6-4C7B-BFC2-34A78437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C5B-8C42-41C1-A7AE-89D9463F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38E1-BF08-46AE-8D98-9E126301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12A-1093-4019-B9D4-746CDAD6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1D1-0FA7-4B1A-B90E-346E486D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5B35-F2B9-4345-88F1-CEAC6C02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8356-8007-450F-9445-E8D22921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C607-2251-46AD-8FCB-87F3CEDB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F74-7D58-4F59-8869-08998749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3807-6F28-418C-BF28-F6AFE374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497-9D1D-4F70-90A7-396ACC67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FF6-F660-4C5F-8F03-26740D48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92A9C-CB88-41D7-8F96-249EF616F9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