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41327"/>
        <c:axId val="95895770"/>
      </c:barChart>
      <c:catAx>
        <c:axId val="24641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5770"/>
        <c:crosses val="autoZero"/>
        <c:auto val="1"/>
        <c:lblAlgn val="ctr"/>
        <c:lblOffset val="100"/>
        <c:noMultiLvlLbl val="0"/>
      </c:catAx>
      <c:valAx>
        <c:axId val="95895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41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597-2E89-40D8-94DF-2BC1D3AC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3DF-280F-401D-926F-7223E597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C94-A272-4D86-91F6-A8E2D5A3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75D-4266-47E9-85ED-FAEAB105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550-253B-4A06-8071-3E288E0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9F6-7EFF-444E-A732-409D5ED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23E-91B4-4131-B0C0-F44F4DBC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A29-AFEB-41A8-8AB4-0C7DDC3A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4D6-2C40-4676-B013-90CF185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07B-1B5E-46AA-9CB7-A11DF6DA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4F6-00C4-4DB2-964F-B7850BD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219-D3AB-43A8-BB72-B0D8F29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EC0C-F668-44D0-B597-3DDEEAC3E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