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16429"/>
        <c:axId val="37001854"/>
      </c:barChart>
      <c:catAx>
        <c:axId val="27416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01854"/>
        <c:crosses val="autoZero"/>
        <c:auto val="1"/>
        <c:lblAlgn val="ctr"/>
        <c:lblOffset val="100"/>
        <c:noMultiLvlLbl val="0"/>
      </c:catAx>
      <c:valAx>
        <c:axId val="37001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16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4E5-48A9-4249-AC0F-33142ACC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D95-769A-47ED-8170-4A2C6232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E09-1500-49A0-BA5A-011B773C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0A8-C333-4957-8210-F02C8B29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86E-CAA9-4689-96E3-C8DBF00D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137-3F00-4ED2-88A5-8893694E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996-F9A6-4D67-91EF-5A513419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76C-113E-454C-88D3-59C7F044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9CA-124F-44B8-82FD-F2B9FC3A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B67-A299-41B4-B0AA-49AF0A7A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805-3EDC-4B90-891C-E68F638D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489-34C0-454D-8A1F-2E5938D4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64E96-6D6C-4F1C-84A3-453E33E792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